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11A-C9B6-4398-8E28-6FF465DE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85C-A07B-4A88-AB65-00858494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84D-9EC9-454B-8A7C-25EBE3AD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9EA-D158-4E74-B835-BB81E7D6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90AF-3BD5-46BF-B7F7-C7775835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52933-A534-46FE-B341-64B72AC6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6010D-A446-4A0A-B6BC-FB5E727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E5FC8-1CFF-454F-A86E-B0F7D269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E035D-1882-4D9E-A204-E85FDBC7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6DDD3-DA6D-479D-BE8A-541B8E2F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AC690-1122-47F2-AC74-DAE7CD0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F23-C395-4FFA-A0D7-862F21C9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5C204-6867-4C92-A5C7-E2F00539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B4AF4-E678-4D2F-8DD1-3524CF69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B873E-A2D5-4A09-9363-0423CDA7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BC6F-DD3C-403A-8BC2-093E2260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A21FC-860C-49E8-BBDB-8AE42C78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2DD-72A5-4905-8E41-25854F96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E3E-5027-440F-9732-8BCEC41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265-480A-4FA3-BCFA-279FF859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12C-91D9-4E9B-93A4-7EE058A3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9B3-2DF7-4413-BF25-E7D8FBC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49C-A361-4100-A402-E78BA15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D83-488F-4FF5-832E-84612E5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0641-2B29-4C75-9799-17CC9F5BB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D5F0-C6F5-46C6-BDAE-6987D244A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Book Antiqua"/>
              </a:rPr>
              <a:t>Darwin’s Theory of Evolution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39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a00"/>
                </a:solidFill>
                <a:latin typeface="Arial"/>
              </a:rPr>
              <a:t>15-1: The Puzzle of Life’s Diversity</a:t>
            </a:r>
            <a:br>
              <a:rPr sz="4000"/>
            </a:b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iological divers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riety of life on Earth- different sizes, shapes, habitat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estion or Proble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all these different organisms arise?  Where did they all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answers questions by using- The scientific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looks for evi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Science’s Answer to the Question: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hange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ell-supported testable 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our support for Evolution came from Charles Darw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a00"/>
                </a:solidFill>
                <a:latin typeface="Arial"/>
              </a:rPr>
              <a:t>Charles Darwin</a:t>
            </a:r>
            <a:br>
              <a:rPr sz="4000"/>
            </a:b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31- set sail on th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gle.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the Naturalist on the ship.  Most of his research was done on The Galapagos Isla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observations and collected evidence.  He even brought some organisms back to Eng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Observations: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s seemed remarkably well-suited for environment (how they survived and reproduc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species only lived in certain places. (eg. Animals in England compared to those found in Argentina and Austral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ssil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ed resembled organisms that were still alive, others looked like nothing he had ever see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16:48Z</dcterms:created>
  <dc:creator>Brian and Megan Gallagher</dc:creator>
  <dc:description/>
  <dc:language>en-US</dc:language>
  <cp:lastModifiedBy>udsd</cp:lastModifiedBy>
  <dcterms:modified xsi:type="dcterms:W3CDTF">2010-05-24T14:17:55Z</dcterms:modified>
  <cp:revision>6</cp:revision>
  <dc:subject/>
  <dc:title>Darwin’s TheEvolution</dc:title>
</cp:coreProperties>
</file>